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5AB-8380-4701-9197-5627454D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7AE-9F18-42F6-B675-F640515C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68C-4C0C-4927-BDD9-E2D5EBA2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518-2A4F-4C8E-BB74-77EC1099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E198-A59A-48D5-B37C-564FF46E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B662-F662-4409-9845-B03F9F4E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C7BB-017C-42BD-89FB-B62708D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84D8-8E19-47BC-AB2C-7C648930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FBE1-8A9D-4EC1-9FEE-4774D462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BEA8-8A1D-4DA2-8F00-184E486B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604B-623B-4C03-BCF3-49C173D7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36F-9495-46A1-B820-7B26DC61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896B-7695-4DC4-B779-CD4EE54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FE68-0656-46F3-8F3D-0C966B8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FC7F-1365-4C11-87C4-AF8F0833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D2B6-A8FA-41FC-BEAF-CBC017DA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3F33-3738-4F4D-8929-A1DB6418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E84-3C59-402A-8A12-00FE344A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B33-AEA7-4877-8D4B-E1403325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5B4-2D31-429E-94CE-0204E7B6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051-123A-4425-9838-D70E4CB0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7A1-0AF8-457F-910C-4C0DBF0C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684-2D5E-4B34-A2CD-8EB1406A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56B-EB70-4A7E-9AD4-DD020E04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EA59-6949-42D3-9916-4CB5904B60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47E-87BF-4E1C-9511-4F057F116F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ll Ring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nk it is important for scientists to study cells and understand how they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ound Light Microscop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0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 light microscope allows light to pass through a specimen and uses two lenses to form an im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ens = Objectiv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ns = Ocular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2146320" cy="377208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6"/>
          <p:cNvCxnSpPr/>
          <p:nvPr/>
        </p:nvCxnSpPr>
        <p:spPr>
          <a:xfrm>
            <a:off x="5562720" y="3809880"/>
            <a:ext cx="1372320" cy="76680"/>
          </a:xfrm>
          <a:prstGeom prst="straightConnector1">
            <a:avLst/>
          </a:prstGeom>
          <a:ln w="38160">
            <a:solidFill>
              <a:srgbClr val="e70000"/>
            </a:solidFill>
            <a:miter/>
            <a:tailEnd len="med" type="arrow" w="med"/>
          </a:ln>
        </p:spPr>
      </p:cxnSp>
      <p:cxnSp>
        <p:nvCxnSpPr>
          <p:cNvPr id="123" name="Straight Arrow Connector 8"/>
          <p:cNvCxnSpPr/>
          <p:nvPr/>
        </p:nvCxnSpPr>
        <p:spPr>
          <a:xfrm flipV="1">
            <a:off x="5791320" y="2894760"/>
            <a:ext cx="1829520" cy="1600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ll Sta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04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blem with light microscopy is that most cells are nearly trans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view the cells scientists use chemical stains or d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ion cells stained with methylene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3057480" cy="250524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5"/>
          <p:cNvCxnSpPr/>
          <p:nvPr/>
        </p:nvCxnSpPr>
        <p:spPr>
          <a:xfrm flipV="1">
            <a:off x="5105520" y="4799880"/>
            <a:ext cx="762480" cy="610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lectron Microsco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study cellular structures that are as small as 1 billionth of a meter in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resolution (clarity) than light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major types of electron microscop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mission Electron Microscope (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nning Electron Microscope (S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Transmission Electron Microscopes (TEM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3520" y="1599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possible to explore cell structures and large protein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must be cut into ultrathin slices so that the beam of electrons can pass through. (Appears 2 Dimens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itochondria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(TEM)                            Nucleus (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2817720" cy="190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2163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Scanning Electron Microscopes (SEM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599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of electrons is scanned over the surface of a speci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ing electron microscopes produce stunning 3 dimensional images of the specimen’s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Pollen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(SEM)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239868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4267080" y="4267080"/>
            <a:ext cx="4006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ome in a variety of shapes and siz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fall into two broad categories, depending on whether they contain a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rokaryo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Cells that do not enclose DNA in a nucleus. Ex.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ukaryo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Cells that enclose their DNA in a nucleus. Ex. Plants, animals, and prot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types of cells contain DNA, cytoplasm, and cell membr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karyotes and Eukary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rcRect l="0" t="-10598" r="0" b="-10598"/>
          <a:stretch/>
        </p:blipFill>
        <p:spPr>
          <a:xfrm>
            <a:off x="914400" y="1600200"/>
            <a:ext cx="7848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kary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ic cells are generally smaller and simpler than eukaryotic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their simplicity, they carry out every activity associated with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grow, reproduce, respond to the environmen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single-celled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kary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larger and more complex than pro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ukaryotic cells contain dozens of structures and internal membranes, and many are highly specia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s can be single-celled (protists) or multicellular (animals and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LANT CEL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1066680" y="1523880"/>
          <a:ext cx="7467840" cy="52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467840" cy="52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ll Ring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cells work is the same thing as understanding how lif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ngs cells do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Energy (AT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molecules (Proteins, carbohydrates, lipi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internal conditions (Homeosta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 exchange (CO2 and O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more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IMAL CEL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762120" y="1576440"/>
          <a:ext cx="838188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76440"/>
                    <a:ext cx="83818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ell Structure and Func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b02522"/>
          <p:cNvPicPr/>
          <p:nvPr/>
        </p:nvPicPr>
        <p:blipFill>
          <a:blip r:embed="rId1"/>
          <a:stretch/>
        </p:blipFill>
        <p:spPr>
          <a:xfrm>
            <a:off x="2362320" y="0"/>
            <a:ext cx="45720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ily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state the 3 parts of the cell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he different types of microscope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prokaryotes and eu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54100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= Basic unit of lif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life is composed 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can be many different sizes (always sm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3017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arly Scienti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van Leeuwen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tiny living organisms in water using a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one of the first to use a microscope to study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Ho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light microscope to look at thin slices of plant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w thousands of tiny chambers and called them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ork"/>
          <p:cNvPicPr/>
          <p:nvPr/>
        </p:nvPicPr>
        <p:blipFill>
          <a:blip r:embed="rId1"/>
          <a:stretch/>
        </p:blipFill>
        <p:spPr>
          <a:xfrm>
            <a:off x="5762520" y="1371600"/>
            <a:ext cx="299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arly Scienti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hias Sch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all plants are made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dor Schw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all animals are made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dolf Virc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ells can only be produced from the division of existing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324480" y="2209680"/>
            <a:ext cx="2463840" cy="18478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ell Theo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ll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composed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basic unit of structure and function in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ells are produced from exis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loring the Cel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produces an enlarged image of something very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icroscopes use lenses to magnify the image of an object by focusing light or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copes available today are much better than early microscopes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Show vid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2:01:41Z</dcterms:created>
  <dc:creator>Stephanie Wertkin</dc:creator>
  <dc:description/>
  <dc:language>en-US</dc:language>
  <cp:lastModifiedBy>Dustin Zahm</cp:lastModifiedBy>
  <dcterms:modified xsi:type="dcterms:W3CDTF">2012-11-26T03:25:56Z</dcterms:modified>
  <cp:revision>50</cp:revision>
  <dc:subject/>
  <dc:title>Cell Structure and Function</dc:title>
</cp:coreProperties>
</file>